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38E-B35D-4757-B77F-81C6A3E4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F77-A02C-4FAA-A9BA-9F08D01E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E32-6C8F-450B-B78C-4E05027A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92B-D8C7-4F26-80CE-B9A4AF9B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C95F-F501-4A2F-B39F-7C0F8EB0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5731-8CC3-49A2-A21B-238F461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EE35-3E0E-4674-92BE-DCDB9843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95EC-EB23-4747-BBD4-1BD294DC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D401-22B4-45F4-A4E1-2788856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4B6A-310D-45BC-8F5B-24DF6C8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BE01-B790-4658-8947-F38F2AF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9A8-BD71-4B30-A628-9E483A56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65A7-7491-485E-ADC7-8E95B61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E197-E5BF-4C1B-84F7-6910A64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5C6E-C076-4838-A915-61F24889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3165-1A38-4FA8-BF49-863BE975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9E6D-5BA6-4633-BA1F-5D4642BC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16D7-D460-498C-BCB4-AB5531F0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826B-FC25-4278-A8BC-3A720995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D227-D60F-43B3-A9BD-FF3C807B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5C30-CC43-45CA-B015-25202BE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CA46-8516-41B2-95A8-7490895A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50C-2E01-4C68-8993-67ECD233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5388-F94B-4CCD-9CD5-685129AE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46CD-7F5B-4DBB-BDD3-86C6E80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954F-5A98-4D7A-A662-EF252AF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1BDC-9EF0-485C-B714-B6DB651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7C7E-E537-4A0B-A301-24F02E80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8125-4049-427C-BFEC-01C4AE2D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CDA1-C2FF-49F9-AE5C-08E0CA00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37B-F3E1-4421-9CD6-3D8A649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820-D14F-465B-AEED-6D24D75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E3E-AFE3-4E26-8480-6307E324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AA5-8705-4A8D-B898-6BB8CEC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824-FAEC-4B69-B9C7-0DD1CE2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507-EAEA-4FF8-B92A-00B38B79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C51-48BE-4846-8F66-B9077ED85A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0D03-A0B6-4272-B543-908F272067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4CE-9EA5-4C23-A02A-D9ED3E8532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Изображение 3" descr="kartinka-s-1-marta-pervyj-den-vesny"/>
          <p:cNvPicPr/>
          <p:nvPr/>
        </p:nvPicPr>
        <p:blipFill>
          <a:blip r:embed="rId1"/>
          <a:stretch/>
        </p:blipFill>
        <p:spPr>
          <a:xfrm>
            <a:off x="87480" y="117360"/>
            <a:ext cx="8955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Изображение 3" descr="1644864743_7-fikiwiki-com-p-korovi-krasivie-kartinki-10"/>
          <p:cNvPicPr/>
          <p:nvPr/>
        </p:nvPicPr>
        <p:blipFill>
          <a:blip r:embed="rId1"/>
          <a:stretch/>
        </p:blipFill>
        <p:spPr>
          <a:xfrm>
            <a:off x="108000" y="3741840"/>
            <a:ext cx="4481640" cy="2987640"/>
          </a:xfrm>
          <a:prstGeom prst="rect">
            <a:avLst/>
          </a:prstGeom>
          <a:ln w="0">
            <a:noFill/>
          </a:ln>
        </p:spPr>
      </p:pic>
      <p:pic>
        <p:nvPicPr>
          <p:cNvPr id="134" name="Изображение 4" descr="1675743980_577300_import-url"/>
          <p:cNvPicPr/>
          <p:nvPr/>
        </p:nvPicPr>
        <p:blipFill>
          <a:blip r:embed="rId2"/>
          <a:stretch/>
        </p:blipFill>
        <p:spPr>
          <a:xfrm>
            <a:off x="108000" y="117360"/>
            <a:ext cx="5362560" cy="3575160"/>
          </a:xfrm>
          <a:prstGeom prst="rect">
            <a:avLst/>
          </a:prstGeom>
          <a:ln w="0">
            <a:noFill/>
          </a:ln>
        </p:spPr>
      </p:pic>
      <p:pic>
        <p:nvPicPr>
          <p:cNvPr id="135" name="Изображение 6" descr="milye_kotyata_i_smeshnye_32_30114121"/>
          <p:cNvPicPr/>
          <p:nvPr/>
        </p:nvPicPr>
        <p:blipFill>
          <a:blip r:embed="rId3"/>
          <a:stretch/>
        </p:blipFill>
        <p:spPr>
          <a:xfrm>
            <a:off x="4491000" y="117360"/>
            <a:ext cx="4554720" cy="3537000"/>
          </a:xfrm>
          <a:prstGeom prst="rect">
            <a:avLst/>
          </a:prstGeom>
          <a:ln w="0">
            <a:noFill/>
          </a:ln>
        </p:spPr>
      </p:pic>
      <p:pic>
        <p:nvPicPr>
          <p:cNvPr id="136" name="Изображение 5" descr="1696601769_gas-kvas-com-p-kartinki-s-sobakami-9"/>
          <p:cNvPicPr/>
          <p:nvPr/>
        </p:nvPicPr>
        <p:blipFill>
          <a:blip r:embed="rId4"/>
          <a:stretch/>
        </p:blipFill>
        <p:spPr>
          <a:xfrm>
            <a:off x="4159080" y="3448080"/>
            <a:ext cx="4886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Изображение 3" descr="ladoni_2_10042040"/>
          <p:cNvPicPr/>
          <p:nvPr/>
        </p:nvPicPr>
        <p:blipFill>
          <a:blip r:embed="rId1"/>
          <a:stretch/>
        </p:blipFill>
        <p:spPr>
          <a:xfrm>
            <a:off x="198360" y="181080"/>
            <a:ext cx="87505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Изображение 3" descr="1648079726_8-kartinkin-net-p-kartinki-malenkogo-printsa-8"/>
          <p:cNvPicPr/>
          <p:nvPr/>
        </p:nvPicPr>
        <p:blipFill>
          <a:blip r:embed="rId1"/>
          <a:stretch/>
        </p:blipFill>
        <p:spPr>
          <a:xfrm>
            <a:off x="219240" y="272880"/>
            <a:ext cx="873432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Текстовое поле 3"/>
          <p:cNvSpPr/>
          <p:nvPr/>
        </p:nvSpPr>
        <p:spPr>
          <a:xfrm>
            <a:off x="395280" y="260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Ты в ответе за тех, кого приручил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Изображение 3" descr="img13"/>
          <p:cNvPicPr/>
          <p:nvPr/>
        </p:nvPicPr>
        <p:blipFill>
          <a:blip r:embed="rId1"/>
          <a:stretch/>
        </p:blipFill>
        <p:spPr>
          <a:xfrm>
            <a:off x="249120" y="196920"/>
            <a:ext cx="862668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Как вы понимаете смысл слова прируч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Приручить – сделать ручным, послуш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Приручиться – стать ручным, привыкнуть к челов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(Словарь С.И.Ожего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кажи о своем домашнем животном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Кто это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Как его зову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Кем являются ваши домашние животные для вас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Bookman Old Style"/>
              </a:rPr>
              <a:t>Друг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Bookman Old Style"/>
              </a:rPr>
              <a:t>Игруш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Bookman Old Style"/>
              </a:rPr>
              <a:t>Обузо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Что  нужно делать, чтобы вашему животному было у вас хорош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Bookman Old Style"/>
              </a:rPr>
              <a:t>Корми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Bookman Old Style"/>
              </a:rPr>
              <a:t>Ухажив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Bookman Old Style"/>
              </a:rPr>
              <a:t>Заботитьс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Что происходит с животными, которых люди бросил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одержимое 3" descr="gosha2.jpg"/>
          <p:cNvPicPr/>
          <p:nvPr/>
        </p:nvPicPr>
        <p:blipFill>
          <a:blip r:embed="rId1"/>
          <a:stretch/>
        </p:blipFill>
        <p:spPr>
          <a:xfrm>
            <a:off x="285840" y="1785960"/>
            <a:ext cx="861516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Текстовое поле 3"/>
          <p:cNvSpPr/>
          <p:nvPr/>
        </p:nvSpPr>
        <p:spPr>
          <a:xfrm>
            <a:off x="2786040" y="476280"/>
            <a:ext cx="547056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3" descr="0_d7d9_a5131acb_XL.jpg"/>
          <p:cNvPicPr/>
          <p:nvPr/>
        </p:nvPicPr>
        <p:blipFill>
          <a:blip r:embed="rId1"/>
          <a:stretch/>
        </p:blipFill>
        <p:spPr>
          <a:xfrm>
            <a:off x="428760" y="285840"/>
            <a:ext cx="8501040" cy="63770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0920ce2988d33082861c0bb6ddbc2fdb.jpg"/>
          <p:cNvPicPr/>
          <p:nvPr/>
        </p:nvPicPr>
        <p:blipFill>
          <a:blip r:embed="rId2"/>
          <a:stretch/>
        </p:blipFill>
        <p:spPr>
          <a:xfrm>
            <a:off x="1428840" y="285840"/>
            <a:ext cx="6286320" cy="62863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00388273.jpg"/>
          <p:cNvPicPr/>
          <p:nvPr/>
        </p:nvPicPr>
        <p:blipFill>
          <a:blip r:embed="rId3"/>
          <a:stretch/>
        </p:blipFill>
        <p:spPr>
          <a:xfrm>
            <a:off x="468360" y="285840"/>
            <a:ext cx="83898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Чем все-таки можно помочь таким животны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Bookman Old Style"/>
              </a:rPr>
              <a:t>Подкармл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Bookman Old Style"/>
              </a:rPr>
              <a:t>Поставить теплую будк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Bookman Old Style"/>
              </a:rPr>
              <a:t>Попытаться найти им хозя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Bookman Old Style"/>
              </a:rPr>
              <a:t>Обратиться в приют для бездомных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Bookman Old Style"/>
              </a:rPr>
              <a:t>Рассказать о них в газете, может, кто-то сможет их взять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Изображение 3" descr="img13"/>
          <p:cNvPicPr/>
          <p:nvPr/>
        </p:nvPicPr>
        <p:blipFill>
          <a:blip r:embed="rId1"/>
          <a:stretch/>
        </p:blipFill>
        <p:spPr>
          <a:xfrm>
            <a:off x="249120" y="196920"/>
            <a:ext cx="8626680" cy="646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Рефлексия «Всё в твоих руках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одержимое 3" descr="ееееееее.jpg"/>
          <p:cNvPicPr/>
          <p:nvPr/>
        </p:nvPicPr>
        <p:blipFill>
          <a:blip r:embed="rId1"/>
          <a:stretch/>
        </p:blipFill>
        <p:spPr>
          <a:xfrm>
            <a:off x="1000080" y="1714680"/>
            <a:ext cx="5286600" cy="45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Изображение 3" descr="gCFMOxrSreE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Изображение 3" descr="ntIXqbYDcEQ"/>
          <p:cNvPicPr/>
          <p:nvPr/>
        </p:nvPicPr>
        <p:blipFill>
          <a:blip r:embed="rId1"/>
          <a:stretch/>
        </p:blipFill>
        <p:spPr>
          <a:xfrm>
            <a:off x="-28440" y="14400"/>
            <a:ext cx="92199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Изображение 2" descr="0a0128cd9b12ebb752bbdf5f5e9458b09f"/>
          <p:cNvPicPr/>
          <p:nvPr/>
        </p:nvPicPr>
        <p:blipFill>
          <a:blip r:embed="rId1"/>
          <a:stretch/>
        </p:blipFill>
        <p:spPr>
          <a:xfrm>
            <a:off x="7920" y="4428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Изображение 3" descr="milye_kotyata_i_smeshnye_32_30114121"/>
          <p:cNvPicPr/>
          <p:nvPr/>
        </p:nvPicPr>
        <p:blipFill>
          <a:blip r:embed="rId1"/>
          <a:stretch/>
        </p:blipFill>
        <p:spPr>
          <a:xfrm>
            <a:off x="150840" y="55440"/>
            <a:ext cx="894888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Текстовое поле 3"/>
          <p:cNvSpPr/>
          <p:nvPr/>
        </p:nvSpPr>
        <p:spPr>
          <a:xfrm>
            <a:off x="2786040" y="476280"/>
            <a:ext cx="547056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Изображение 3" descr="1696601769_gas-kvas-com-p-kartinki-s-sobakami-9"/>
          <p:cNvPicPr/>
          <p:nvPr/>
        </p:nvPicPr>
        <p:blipFill>
          <a:blip r:embed="rId1"/>
          <a:stretch/>
        </p:blipFill>
        <p:spPr>
          <a:xfrm>
            <a:off x="227160" y="165240"/>
            <a:ext cx="8699400" cy="64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Текстовое поле 3"/>
          <p:cNvSpPr/>
          <p:nvPr/>
        </p:nvSpPr>
        <p:spPr>
          <a:xfrm>
            <a:off x="2786040" y="476280"/>
            <a:ext cx="547056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Изображение 3" descr="1675743980_577300_import-url"/>
          <p:cNvPicPr/>
          <p:nvPr/>
        </p:nvPicPr>
        <p:blipFill>
          <a:blip r:embed="rId1"/>
          <a:stretch/>
        </p:blipFill>
        <p:spPr>
          <a:xfrm>
            <a:off x="219240" y="212760"/>
            <a:ext cx="86454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Текстовое поле 3"/>
          <p:cNvSpPr/>
          <p:nvPr/>
        </p:nvSpPr>
        <p:spPr>
          <a:xfrm>
            <a:off x="2786040" y="476280"/>
            <a:ext cx="547056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Изображение 4" descr="1644864743_7-fikiwiki-com-p-korovi-krasivie-kartinki-10"/>
          <p:cNvPicPr/>
          <p:nvPr/>
        </p:nvPicPr>
        <p:blipFill>
          <a:blip r:embed="rId1"/>
          <a:stretch/>
        </p:blipFill>
        <p:spPr>
          <a:xfrm>
            <a:off x="108000" y="117360"/>
            <a:ext cx="8901000" cy="66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ome</cp:lastModifiedBy>
  <dcterms:modified xsi:type="dcterms:W3CDTF">2024-02-29T16:29:28Z</dcterms:modified>
  <cp:revision>20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F4FEA3CA3E84A51B4A0AF87624D0943_12</vt:lpwstr>
  </property>
  <property fmtid="{D5CDD505-2E9C-101B-9397-08002B2CF9AE}" pid="3" name="KSOProductBuildVer">
    <vt:lpwstr>1049-12.2.0.13489</vt:lpwstr>
  </property>
</Properties>
</file>